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122-8B67-4D13-8B77-E2C58CA5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48A-CF70-4820-8A5F-CE8B9255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54141-5AC4-4597-96E7-0CCFF82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D29B9-B901-4AF8-A5B4-4EA0C5C6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88D89-211E-4DBF-9B20-13AA8B9A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AFC23-F690-4097-93EF-4811351D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FEB25-9859-4338-857B-4C01975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1EA60-325A-4C3A-9E82-6AF9D1D2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60F48-75EE-4FF8-BB23-5ABEA7D8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8ABB3-AB07-4FBF-807C-B91E5F47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A1564-75D7-4161-9761-C43832E6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D674E-A5F3-4D40-ADA3-C3C5C663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8A1-F8DA-4CDC-854E-7EA3D93C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427EA-DE17-4A81-9A31-DD2A25F8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F3E1B-C84A-4BF4-9442-2FB9DB7E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9D2AD-15BA-4B0A-B55E-918DFA5E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2E314-A8D0-46C3-A13B-A122C61F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FF314-66CC-46B8-BCE9-3D32822E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4F39F-1DF4-4A25-9C80-74D8B336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82D05-ACBE-49D2-AABC-2B91BB5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79285-5D9C-4D17-9E70-7DA8CE9B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BE9C6-E335-4957-8B10-8AECB80D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D373F-5B29-411B-B38C-A47359A4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2FD-1DCF-4535-ABC0-D9F83856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12EFA-3482-4576-A921-7317851B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3364E-C48D-4384-9BF5-CBB3DA66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C04A1-FFD6-4FD0-AAEC-55700664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4E514-B08E-4D26-A5F0-D66BEBD8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22BAC-CD95-448C-9750-12011927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0E773-C23B-4313-A9BB-FDAD3EF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8ADFA-D530-4F11-9CB7-56360CB2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8B51D-E3E9-450B-8596-DBAF7DC0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4A1-B8FF-4FDF-A949-AE4EB72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B4527-4011-4DDC-A383-7364BCBD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7A5A0-529C-4889-BEDC-D78C7C5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826CC-CCB7-4115-AC81-295CA311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A4FB0-AC41-4A56-98DB-39C96EF8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B2DB4-F1E0-497C-ACA5-58B37869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931B-071C-44C5-9319-95E051D1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0119-262E-4C66-8255-5EDDD6FB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F97E-1740-42AE-8ED2-8275189C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E4C2-7251-448B-970F-D74161C4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C058-937D-4A6C-83C5-2D75A621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CFE-D52A-46A6-AEAA-533D2825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099E-1425-48BB-BB27-2E1049AE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99B1-673D-416A-AC9D-CAEB76A8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BB7D-33B6-4A66-B469-B25F0A4C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4D07-5CB4-4D03-80C1-C4F4BED1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1FEC-6B9C-4A7F-94C5-B9C868C5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0D03-920F-4D95-A1A0-4A81AC69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AB28-4297-4E76-9E26-80128F5F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50A95-9082-43CB-B9C1-53822DDD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E181A-1EA5-4240-B772-988A3D1A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6E96A-9B42-4D4B-8994-5A2E1536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4B1-F43C-478A-B8D2-C86DBCF8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5BEA2-6F7A-45D2-8905-73782206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3E82B-272B-41BE-B651-E1D96052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4DC76-7C4E-415E-A61B-BA4DE4AB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47D6D-8C3F-42A2-85C8-D3F5664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60F95-2FCC-4BDC-BA46-F30EE5A8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50943-FC65-4D66-BCFD-235D599E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CFEEC-BC3C-4223-AA63-A7AEA4BB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27CC9-ADDD-4B85-9A54-7AA8903A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1348C-8BFF-42D3-B415-7E4F5DB5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E88E9-126C-4E0E-B94E-25C8FA37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A1D-7629-4176-8A08-48F76D53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8B6A4-89B4-4E59-9DF6-F3060E76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DE10A-9E38-4136-8472-3C2549B5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3264A-1249-4AF8-B1C1-4B89270F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7286F-EF98-4A8B-ABF4-17F63CE3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61BB2-D2A4-4653-BD5F-470C1242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B0410-81AA-4674-AF6C-0E20FE6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42A8A-78A2-4E1F-91BB-DF393333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29A1C-4A25-4D1C-987B-660B30D7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3C915-A313-49CC-8401-B14C2E5B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B5646-1F12-47D5-9D42-0E1855E5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B22-3ACB-4068-A567-27706343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EB87A-383A-4D59-8F7D-D30E6068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35DD-00FB-4FFA-99B0-9A09A446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8309E-7DC0-4CD0-BB3A-EA5E445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7DDB5-493C-4448-A555-2BDB92D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2FD4-B016-4D95-B997-BB9ADA50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856B-A6F2-4933-9747-409A6FBB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0F75C-B47C-4A57-BF8F-008095C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0DC30-D59B-4BF1-BDF4-33D8B25E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DF1F1-C62E-41C5-9501-B30CCC7B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1E4C3-96D0-486A-89C8-DDB29D88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7B4-094A-42CE-9983-53765740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5521-5241-43C4-9D3C-95FB7DDA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958E1-2379-42EC-A8E4-A74BD425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C1315-280C-4ADA-BE53-820E5E17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880EC-452C-4C44-9230-1FE53425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5734-B6FB-4B2D-86D6-438EB2B3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BD7F5-F4E7-4692-AF24-901DC687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D529-08C3-4E23-9D35-1A08B0F5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2ECD6-A2A4-4DE2-ACFB-05BBC71E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1096-EA51-472F-ACA0-5EE3F1DE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038E6-CA41-4337-AAE9-E54FEAB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D3C-D1ED-468A-83E6-8E5EEBD0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00AE8-CF45-493D-95BE-AA4D6CF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F21A6-8BA7-46DF-AC4E-49C96BA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77D77-DDE2-4581-AECD-467A1794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D75B2-D99D-48F4-8AA8-88F60016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2D89F-769D-42AE-949B-593E411A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F72BC-D0C4-4C91-BAB3-6A40EC14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31B10-0D53-4499-9799-2B6D4B0C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7562-354F-4AD6-AA9C-2011A565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11772-1974-4580-ABEE-7BC9F747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F4459-FB10-4265-A4F0-E91CE1FB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ED7-CC57-4B20-A840-4EC3F523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D13F7-773C-4925-AC53-F6494041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585C6-0438-4CE4-A255-E51FAB7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B9C6B-544D-4486-8B8F-21230198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09C55-C77B-4561-8B40-C6A3715A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63D8-AC52-49D0-8EC1-8A9D8055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9DE46-4CA1-4684-AAB5-77D67465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4E904-F47D-4224-9043-410F1DD4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79663-F7D4-4337-9A45-AE07FC96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3CE06-8198-456F-967D-5FD5778D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9B598-5623-40DC-8B06-F744CAB0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B1C6-D18B-46A7-A54B-DC9C52883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2D74-8087-4E4E-902E-37B74B6F6E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4DBC-181B-4259-9ECD-DD8189BAF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86EF-F4CD-46B4-AB42-BAFBC48B34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7960-D1F0-4BFC-9C20-B9E6DBBEA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8B22-381B-4433-B0BC-A45684EEB17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A99D-D279-4CBA-B6C0-94C8702C03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3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0283-3837-41A9-95BF-67C8D0A2EC2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43CE-D648-49EE-A801-02BDC227845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79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49F-79D9-4129-9A68-36F5808B66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y personal learning profile by Antoni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743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t’s important to learn how your brain works becaus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know how the brain works you can use your mind to do more things like exercises and you can learn a lot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 can use what I have learned about the way my brain works in school. I can do this when 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learn how your brain work doing your job or doing a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y learning style 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t means that 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what you need to do at that mo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 learning technique 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rete ran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found out that my left hemisphere of the brain 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weaker than my right 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 right hemisphere of my brain is my stronger side of my brain and I use it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5:47:43Z</dcterms:created>
  <dc:creator>noah</dc:creator>
  <dc:description/>
  <dc:language>en-US</dc:language>
  <cp:lastModifiedBy>noah</cp:lastModifiedBy>
  <dcterms:modified xsi:type="dcterms:W3CDTF">2010-11-23T16:13:16Z</dcterms:modified>
  <cp:revision>3</cp:revision>
  <dc:subject/>
  <dc:title>Antonio Power point</dc:title>
</cp:coreProperties>
</file>